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2FE-8FF4-46F9-A5EA-AB5B8555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5A9-D486-4E01-91F1-06D3AC67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418-6734-4110-94DB-223AAC4B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AC4-7EAB-48C7-A010-F540FC36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17C-0899-4B7E-AB45-9AD7AA39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A6A-2E7B-439F-BA1B-1949C32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3AE-AB2D-414A-96A5-198D36E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508-F506-439C-AD60-1FA01EE3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7BF-67A4-4FBB-A221-AB3132AF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C01-99C6-4AEE-9791-0C3508C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1B5-1E30-47C7-9DDF-9E5C700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2A5-8FC2-40EB-B1B3-5C33907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D03-3F5A-4DF4-BAFE-CFEA7417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         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8 de septiem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7222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a Prueba: Repaso A 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L.O.: to review the gender noun agreement and the verb SER for th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s many Spanish words as you can think of associated wit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oose the correct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 muy se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é que nacionalidad _______ e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amigos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 una buena am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_ tú un buen estudi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392120" y="165564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397520" y="269712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47920" y="388620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90680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473480" y="60958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wer in full Spanish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De dónde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De qué nacionalidad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Dónde eres alumn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Es grande o pequeña tu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¿Cómo es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Son ustedes buenos o malos alumn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2280" y="3805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I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Copy complete with the correct form of 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sa, tú _________ de Florida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yo _______ de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rnando ______ de Florida tambié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, él _______ de Tam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 alumnos en la mism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__________ alumnos de español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3"/>
          <p:cNvSpPr/>
          <p:nvPr/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CONVERSACION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Z REPASO A on THURS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: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ate Articl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, la, los,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11:16Z</dcterms:created>
  <dc:creator>Helen Zumaeta</dc:creator>
  <dc:description/>
  <dc:language>en-US</dc:language>
  <cp:lastModifiedBy>Helen Zumaeta</cp:lastModifiedBy>
  <cp:lastPrinted>2015-09-28T13:17:08Z</cp:lastPrinted>
  <dcterms:modified xsi:type="dcterms:W3CDTF">2015-09-28T19:30:39Z</dcterms:modified>
  <cp:revision>24</cp:revision>
  <dc:subject/>
  <dc:title>Me llamo __________ Clase 6 nh/im La fecha es el 5 de enero del 2011</dc:title>
</cp:coreProperties>
</file>